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ADCA3-D3C4-4F7C-9398-B17608601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8B743-AB15-4A0C-B524-89AD6BC44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983B1-06B3-4AD8-95DD-3D42C0F9B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2D3A5-85CE-44DB-B7C4-CB6DFF1AD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614B4-208E-4D0E-924D-BAEDDCF41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60B8F-B13C-4687-BC96-9755AC975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34B50-0A05-4A4F-AD0C-E78823012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8C4E3-F4D2-413E-B8EC-11C8B99C6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3D71F-2E36-42C7-B808-460B7B4FA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81E2D-46BD-4188-B745-895254852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F80DF-0EDD-4F23-8245-ABD4A6315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7EB0F-7BA2-4384-BDED-3FDEF237E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683E1-6FEF-4296-A2BA-71371C224E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898989"/>
              </a:solidFill>
              <a:latin typeface="Calibri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mike</cp:lastModifiedBy>
  <dcterms:modified xsi:type="dcterms:W3CDTF">2009-10-27T07:57:53Z</dcterms:modified>
  <cp:revision>3</cp:revision>
  <dc:subject/>
  <dc:title>Slide 1</dc:title>
</cp:coreProperties>
</file>